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2D5-4B25-4E3E-BF20-FDD522EC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DE9-9F4C-4A10-9317-E8A3D3E7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D98-DB28-457D-8A66-AF3B50E3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E7C-D166-48C9-9271-25A95E08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42B-BA1E-47F4-8B14-8A56186D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7CD-4C87-46EC-A787-B9D2F02E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AF3-2ECB-43A2-AA7F-D191B06E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D6E-9DF6-4AA3-8158-B5112B45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B2A-A5D2-4405-9E83-CA4FDF1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843-AF7A-4C63-A515-A89FA8CC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35F-B9D9-40FD-BFA0-88DDB669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51B-8EA8-42F2-8E5C-C14CE36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3BE6-140E-4788-88D9-CC68EA5C9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066680"/>
            <a:ext cx="58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Introduzione alla stima dei parametri della turbolenza del PB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5715000" cy="63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metri che definiscono la turbolenza del PB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la forzante meccanica (u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e convettiva (H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l’estensione verticale del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PB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quanto riguarda l’estensione verticale del PBL (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tezza di rimescolamen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, essa può essere stimat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ll’esame del profilo di temperatura (radiosondagg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 R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ll’eco SO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l modello prognostico presentato in preceden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Nel seguito si presenterà una breve introduzione sui metodi per la stima di u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e H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etodo di determinazione diret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Eddy_Covari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etodi di stima indiret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6934320"/>
            <a:ext cx="4856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91440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odo di determinazione diretta: Eddy-Co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447920"/>
            <a:ext cx="571500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uesto metodo consente la determinazione diretta della forzante convettiva e di quella meccanica sia nelle condizioni convettive che in quelle stabili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umentazione da utilizza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misura triassiale del vento e della temperatura a risposta rapida (in pratica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anemometro sonic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isure disponibi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In un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iodo di mediazione opportu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15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60 min.) l’anemometro ultrasonico raccoglie 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equenza eleva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tipico 10 Hz cioè 10 misure al secondo)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quadrup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Con queste misure si determinano l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arianz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varianz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gue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371760" y="4470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762120" y="6553080"/>
                <a:ext cx="13586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838600" y="4381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666880" y="6553080"/>
                <a:ext cx="1333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0" y="6553080"/>
                <a:ext cx="14097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2120" y="7238880"/>
                <a:ext cx="19684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114800" y="7238880"/>
                <a:ext cx="19303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438280" y="7848720"/>
                <a:ext cx="19814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295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iction velocit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d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95760" y="4419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693880" y="1809720"/>
                <a:ext cx="1366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/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9480" y="26668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usso Turbolento di Calore Sensib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4804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779560" y="3195720"/>
                <a:ext cx="1040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38098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unghezza di Monin-Obukhov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è data d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743200" y="4343400"/>
                <a:ext cx="1231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ρ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/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9480" y="5638680"/>
            <a:ext cx="55627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B: normalmente il metodo Eddy-Covariance 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senta in una forma più complessa, dato 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preferisce, per ragioni teoriche, prima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re le varianze e le covarianze, ruotare 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onenti del vento in modo tale ch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onente u sia parallela alla direzione m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ocale del v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295280"/>
            <a:ext cx="58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odo di determinazione indiret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l metodo dei gradienti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133720"/>
            <a:ext cx="5715000" cy="27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isure necessari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Una stima realistica della rugosità superficia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Una misura della veloc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 vento alla quot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Una misura di temperatur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Una misura di temperatur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è necessario che le misure di temperatura si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remamente precise e stabil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724280"/>
            <a:ext cx="4860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295280" y="5181480"/>
            <a:ext cx="4496040" cy="2502000"/>
            <a:chOff x="1295280" y="5181480"/>
            <a:chExt cx="4496040" cy="2502000"/>
          </a:xfrm>
        </p:grpSpPr>
        <p:sp>
          <p:nvSpPr>
            <p:cNvPr id="71" name=""/>
            <p:cNvSpPr/>
            <p:nvPr/>
          </p:nvSpPr>
          <p:spPr>
            <a:xfrm>
              <a:off x="1295280" y="7364160"/>
              <a:ext cx="449604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2800" y="5281920"/>
              <a:ext cx="93960" cy="211284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4440" y="5281920"/>
              <a:ext cx="46872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06400" y="5281920"/>
              <a:ext cx="37512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06400" y="6968880"/>
              <a:ext cx="28152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2480" y="5181480"/>
              <a:ext cx="375120" cy="20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,  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0800" y="6868440"/>
              <a:ext cx="375120" cy="20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68360" y="5181480"/>
              <a:ext cx="375120" cy="20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95280" y="7381080"/>
              <a:ext cx="4496040" cy="3024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81448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19320" y="8001000"/>
                <a:ext cx="13428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98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80044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343400" y="8001000"/>
                <a:ext cx="13842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98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zioni di Similarit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e vengono impiegate s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86080" y="4300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33720" y="2057400"/>
                <a:ext cx="21621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/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785960" y="4300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676520" y="2819520"/>
                <a:ext cx="33750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/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93832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819520" y="3581280"/>
                <a:ext cx="9810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  <m:r>
                              <m:t xml:space="preserve">'</m:t>
                            </m:r>
                            <m:r>
                              <m:t xml:space="preserve">θ</m:t>
                            </m:r>
                            <m:r>
                              <m:t xml:space="preserve">'</m:t>
                            </m:r>
                          </m:e>
                        </m:ba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/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881440" y="4319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43200" y="4038480"/>
                <a:ext cx="1108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  <m:r>
                              <m:t xml:space="preserve">'</m:t>
                            </m:r>
                            <m:r>
                              <m:t xml:space="preserve">θ</m:t>
                            </m:r>
                            <m:r>
                              <m:t xml:space="preserve">'</m:t>
                            </m:r>
                          </m:e>
                        </m:ba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/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3200" y="4724280"/>
                <a:ext cx="115236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9480" y="5105520"/>
            <a:ext cx="5715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to 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numero di equazioni è pari al numero di variabil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forma funzionale per le Funzioni Universali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milarità è no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stema di equazion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on linea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è risolubi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fornend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utt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 parametri che caratterizzano la turbolenza de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B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1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14300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odo di determinazione indiret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l metodo della ripartizione della Radiazione n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133720"/>
            <a:ext cx="556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ura indispensabi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Radiazione Netta 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 Rn non è disponibile ma lo è 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2240" y="43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209680" y="3733920"/>
                <a:ext cx="2409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σ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048120" y="3200400"/>
            <a:ext cx="4856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572000"/>
            <a:ext cx="49528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oefficiente di alb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anti (5.31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60, 0.1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è la costante di Stafan-Boltzman (5.67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la copertura del cielo (0 –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 Rg non è nota ma lo è solo N,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ima si stima 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67057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golo di declinazione s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2200" y="4319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62320" y="7238880"/>
                <a:ext cx="20541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3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762120" y="7924680"/>
            <a:ext cx="32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B: d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giorno giu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666880"/>
            <a:ext cx="4860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91440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golo di elevazione s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1456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8800" y="1447920"/>
                <a:ext cx="31971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δ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π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09480" y="2133720"/>
            <a:ext cx="594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è la latitudine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la longitudine e t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utc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l’ora di Green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286000" y="3200400"/>
                <a:ext cx="21589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914400" y="3962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lusso Turbolento di Calore Sensib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i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81400" y="4324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86000" y="4572000"/>
                <a:ext cx="2238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/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/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838080" y="5257800"/>
            <a:ext cx="54864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un parametro e vale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è un parametro dipendente dal tipo di suolo (0.1 lu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sertico, 0.5 luogo arido e città, 0.8 campi, 1.0 ca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midi, 1.4 m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il flusso di calore nel suolo e vale 0.2 Rn nelle 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urne e 0.5 Rn nelle ore nottu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76440" y="4338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38280" y="7467480"/>
                <a:ext cx="2044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/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9907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iction velocit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i ha dal il sistema non line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4300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133720" y="1600200"/>
                <a:ext cx="21081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/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94804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666880" y="2362320"/>
                <a:ext cx="10382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666880" y="2819520"/>
                <a:ext cx="1108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  <m:r>
                              <m:t xml:space="preserve">'</m:t>
                            </m:r>
                            <m:r>
                              <m:t xml:space="preserve">θ</m:t>
                            </m:r>
                            <m:r>
                              <m:t xml:space="preserve">'</m:t>
                            </m:r>
                          </m:e>
                        </m:ba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/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09480" y="3962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lle ore nottur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 preferisce usare un altro meto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9576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90920" y="4648320"/>
                <a:ext cx="1419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277668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90920" y="5181480"/>
                <a:ext cx="1444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u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2347920" y="41529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133720" y="5943600"/>
                <a:ext cx="2468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f>
                                                <m:num>
                                                  <m:r>
                                                    <m:t xml:space="preserve">2</m:t>
                                                  </m:r>
                                                  <m:sSub>
                                                    <m:e>
                                                      <m:r>
                                                        <m:t xml:space="preserve">U</m:t>
                                                      </m:r>
                                                    </m:e>
                                                    <m:sub>
                                                      <m:r>
                                                        <m:t xml:space="preserve">0</m:t>
                                                      </m:r>
                                                    </m:sub>
                                                  </m:sSub>
                                                </m:num>
                                                <m:den>
                                                  <m:sSub>
                                                    <m:e>
                                                      <m:r>
                                                        <m:t xml:space="preserve">C</m:t>
                                                      </m:r>
                                                    </m:e>
                                                    <m:sub>
                                                      <m:sSup>
                                                        <m:e>
                                                          <m:r>
                                                            <m:rPr>
                                                              <m:lit/>
                                                              <m:nor/>
                                                            </m:rPr>
                                                            <m:t xml:space="preserve">DN</m:t>
                                                          </m:r>
                                                        </m:e>
                                                        <m:sup>
                                                          <m:r>
                                                            <m:t xml:space="preserve">1</m:t>
                                                          </m:r>
                                                          <m:r>
                                                            <m:t xml:space="preserve">/</m:t>
                                                          </m:r>
                                                          <m:r>
                                                            <m:t xml:space="preserve">2</m:t>
                                                          </m:r>
                                                        </m:sup>
                                                      </m:sSup>
                                                    </m:sub>
                                                  </m:sSub>
                                                  <m:r>
                                                    <m:t xml:space="preserve">u</m:t>
                                                  </m:r>
                                                </m:den>
                                              </m:f>
                                            </m:e>
                                          </m:d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si es 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in caso contrario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83860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838080" y="7162920"/>
                <a:ext cx="12956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89080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819520" y="7162920"/>
                <a:ext cx="11779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110040" y="4348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29200" y="7086600"/>
                <a:ext cx="6890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kT</m:t>
                            </m:r>
                          </m:e>
                          <m:sub/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82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_1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0666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ugosità Superfic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oughness%20Length" descr=""/>
          <p:cNvPicPr/>
          <p:nvPr/>
        </p:nvPicPr>
        <p:blipFill>
          <a:blip r:embed="rId1"/>
          <a:stretch/>
        </p:blipFill>
        <p:spPr>
          <a:xfrm>
            <a:off x="1400040" y="1447920"/>
            <a:ext cx="457848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6:43:33Z</dcterms:created>
  <dc:creator>consip</dc:creator>
  <dc:description/>
  <dc:language>en-US</dc:language>
  <cp:lastModifiedBy>Consip</cp:lastModifiedBy>
  <dcterms:modified xsi:type="dcterms:W3CDTF">2003-10-21T09:27:26Z</dcterms:modified>
  <cp:revision>1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682524</vt:r8>
  </property>
  <property fmtid="{D5CDD505-2E9C-101B-9397-08002B2CF9AE}" pid="3" name="_AuthorEmail">
    <vt:lpwstr>ledabul@katamail.com</vt:lpwstr>
  </property>
  <property fmtid="{D5CDD505-2E9C-101B-9397-08002B2CF9AE}" pid="4" name="_AuthorEmailDisplayName">
    <vt:lpwstr>Leda Bultrini</vt:lpwstr>
  </property>
  <property fmtid="{D5CDD505-2E9C-101B-9397-08002B2CF9AE}" pid="5" name="_EmailSubject">
    <vt:lpwstr/>
  </property>
</Properties>
</file>