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7ED-57B8-43E6-AE8C-66582FF0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743-8E5E-4016-AAAB-7662493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FD9-E909-40AB-AD32-C237708A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FB6-D20F-4C52-B79D-0C5072A8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32A-2F96-4D5C-BD82-EE7C9EB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884-8135-4A5F-AFF5-E8CEC0E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59A-2A05-44D3-A005-A59BA6F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835-0668-4D78-8F34-080255F4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23F-1CF0-4CDC-AFD7-2A71F83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BB6-0235-44AB-AC24-915FFAE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24F-E16A-424F-B116-7693952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486-83CA-4CB3-8B82-46D05B7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CF19-7995-46ED-BB23-7E0EDF40471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066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adiosond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752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lloni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lot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263196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6629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os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llone fre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renato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427824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066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i Remote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905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odar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191120" cy="2770200"/>
          </a:xfrm>
          <a:prstGeom prst="rect">
            <a:avLst/>
          </a:prstGeom>
          <a:ln w="0">
            <a:noFill/>
          </a:ln>
        </p:spPr>
      </p:pic>
      <p:pic>
        <p:nvPicPr>
          <p:cNvPr id="53" name="Fig9_48" descr=""/>
          <p:cNvPicPr/>
          <p:nvPr/>
        </p:nvPicPr>
        <p:blipFill>
          <a:blip r:embed="rId2"/>
          <a:stretch/>
        </p:blipFill>
        <p:spPr>
          <a:xfrm>
            <a:off x="1752480" y="5486400"/>
            <a:ext cx="37245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20:51:21Z</dcterms:modified>
  <cp:revision>6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