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F4A1-12AC-40A0-A4A2-9820FEE9C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5BC8-3C88-40F2-8900-877DBD7D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BA15-C059-4F12-ACDC-4D0C3C005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CA26-53C8-4F95-9481-8AC47A892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6B52-B387-45CD-A842-EB396543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EAA1-0658-4CD5-A0DD-69B6C212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6E6A-A991-4AC1-9792-9D789DE5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9FA3-0CCF-47E9-84F4-9FC51A76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0FE5-69B5-4811-9B76-650E869B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364A-FA66-44AE-B184-7D5DE948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9C58-15FD-4C74-A6AF-284343C1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ADE7-6ADD-4EC5-9F12-1509AF27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BCB0-737F-4302-A20D-652088FFB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829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Fig9_15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2444760" cy="2819520"/>
          </a:xfrm>
          <a:prstGeom prst="rect">
            <a:avLst/>
          </a:prstGeom>
          <a:ln w="0">
            <a:noFill/>
          </a:ln>
        </p:spPr>
      </p:pic>
      <p:pic>
        <p:nvPicPr>
          <p:cNvPr id="43" name="Fig9_16" descr=""/>
          <p:cNvPicPr/>
          <p:nvPr/>
        </p:nvPicPr>
        <p:blipFill>
          <a:blip r:embed="rId2"/>
          <a:stretch/>
        </p:blipFill>
        <p:spPr>
          <a:xfrm>
            <a:off x="2133720" y="4876920"/>
            <a:ext cx="2549520" cy="3047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66680" y="9907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Anemometro Gill Biass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457200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nemometro Gill Triass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829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Fig9_19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3459240" cy="4800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14400" y="121932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emometro Sonico Triass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829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9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371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Termoigro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Fig9_27" descr=""/>
          <p:cNvPicPr/>
          <p:nvPr/>
        </p:nvPicPr>
        <p:blipFill>
          <a:blip r:embed="rId1"/>
          <a:stretch/>
        </p:blipFill>
        <p:spPr>
          <a:xfrm>
            <a:off x="1523880" y="2362320"/>
            <a:ext cx="388620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829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16002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adiometro Glob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Fig9_36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457200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829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10666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adiometro Ne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Fig9_39" descr=""/>
          <p:cNvPicPr/>
          <p:nvPr/>
        </p:nvPicPr>
        <p:blipFill>
          <a:blip r:embed="rId1"/>
          <a:stretch/>
        </p:blipFill>
        <p:spPr>
          <a:xfrm>
            <a:off x="2209680" y="5334120"/>
            <a:ext cx="2819520" cy="1836720"/>
          </a:xfrm>
          <a:prstGeom prst="rect">
            <a:avLst/>
          </a:prstGeom>
          <a:ln w="0">
            <a:noFill/>
          </a:ln>
        </p:spPr>
      </p:pic>
      <p:pic>
        <p:nvPicPr>
          <p:cNvPr id="58" name="Fig9_38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426708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7T16:43:33Z</dcterms:created>
  <dc:creator>consip</dc:creator>
  <dc:description/>
  <dc:language>en-US</dc:language>
  <cp:lastModifiedBy>Consip</cp:lastModifiedBy>
  <dcterms:modified xsi:type="dcterms:W3CDTF">2003-10-20T20:46:33Z</dcterms:modified>
  <cp:revision>65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3682524</vt:r8>
  </property>
  <property fmtid="{D5CDD505-2E9C-101B-9397-08002B2CF9AE}" pid="3" name="_AuthorEmail">
    <vt:lpwstr>ledabul@katamail.com</vt:lpwstr>
  </property>
  <property fmtid="{D5CDD505-2E9C-101B-9397-08002B2CF9AE}" pid="4" name="_AuthorEmailDisplayName">
    <vt:lpwstr>Leda Bultrini</vt:lpwstr>
  </property>
  <property fmtid="{D5CDD505-2E9C-101B-9397-08002B2CF9AE}" pid="5" name="_EmailSubject">
    <vt:lpwstr/>
  </property>
</Properties>
</file>