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.wmf" ContentType="image/x-wmf"/>
  <Override PartName="/ppt/media/image29.jpeg" ContentType="image/jpeg"/>
  <Override PartName="/ppt/media/image13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824-57D8-4D20-ADE4-8FD3041D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132-CC03-4643-BA3E-877487C2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C8E-2D2D-414B-81D7-DF7E206A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747-BDC2-4D99-B90E-CF5129EC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A4C-B263-4A7C-8628-2F155F37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3D5-EA42-4E1C-B6A7-45CA4083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765-77FB-4BCF-8EA7-FFEFFCAD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68D-1DBD-423E-A0DB-13A3F518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90F-E87F-4C23-A7F2-9E00F78A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281-1951-4E93-92C9-FBCBFFE3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A9F-7AE5-4042-99DA-04AC94FE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D8A-A8A5-49FA-8B9C-5B81D8F8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C95B-A69D-4BAB-B8A6-FB7202AA9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90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lo Matematico del P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5943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BL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porzione di troposfera =&gt;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luido Newtoniano Visc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otrebbe essere modellizzato con le Leggi di Conservazione, cioè con i normali metodi della Fluidodinam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l Dominio di Calcolo e le Variabi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Tipicamen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il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ominio di calco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una porzione di atmosfera a forma di parallelepipedo con base inferiore al suolo e superio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men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all’altezza di rimescol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stema di coordina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siderato è quello cartesiano ortogonale meteorologico visto pr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riabi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si considerano sono i 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lori istantane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le component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l v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la temperatura potenzial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la pressione barometric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la densità dell’ari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2133720"/>
            <a:ext cx="4860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838080"/>
            <a:ext cx="617220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empio Didatti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filo verticale della velocità del v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tro il 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tuazione adiab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questo caso è importante la sola turbolenza meccanica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dato c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 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/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ciamo due esperimenti in due situazioni dive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uogo quasi deserti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e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mpo di mais matu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e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l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 misure vento a 1, 2, 4, 8, 12, 24, 48 e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09640" y="30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95280" y="5181480"/>
            <a:ext cx="3438720" cy="3029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419720" y="63244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dri = situazio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chi = situazione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71800" y="2876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2394000" cy="2990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8380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mbio della scal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572000"/>
            <a:ext cx="5410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sserva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locità del v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 a ze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 una quo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ersa da z = 0 ( 0.01m nella situazione 1 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m nella 2) =&gt; è la rugosità del terreno =&gt;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a la quota a cui la velocità si annulla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ugos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perfici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aratteristica di ogni superfic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i due profili si nota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146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870280" y="7543800"/>
                <a:ext cx="8794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762120"/>
            <a:ext cx="6019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rofondi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i misurano altri profili a diversi valori d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mpre in situazioni adiabat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71800" y="30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36720" y="1523880"/>
            <a:ext cx="2664000" cy="2971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62120" y="4648320"/>
            <a:ext cx="54100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io di variabi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/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/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71800" y="3238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666880" cy="2620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6688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666880" y="7772400"/>
                <a:ext cx="14860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u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14300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ultato ottenu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la relazione segu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6236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514600" y="1676520"/>
                <a:ext cx="11714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57200" y="2514600"/>
            <a:ext cx="5715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he è un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Universa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econdo cu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volta noto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caratteristica della superficie) 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stato della turbolenza meccan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nisce ad ogni quota z (entro i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il valore me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a velocità del vento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ando la situazione 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adiab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a costante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(nota come costante di Von Karman) vale 0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erchiamo d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ndere più genera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questa relazione e realizziam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isure di profili in differenti condizioni di stabilit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valori differen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valori differenti positivi e negativi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1/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7315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29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5257800" cy="3425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90720" y="30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518148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990720"/>
            <a:ext cx="60199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e figu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ggerisco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 cercare una relazione 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aticamente logaritm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e nella situ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iab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 in cui l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vettività intervenga com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rrezione alla legge logaritm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rrezione fun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 parametro z/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020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9680" y="3429000"/>
                <a:ext cx="2073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800" y="4952880"/>
            <a:ext cx="5133960" cy="3000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4114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 dati sperimentali otteniamo la figura seguente che ci conferma l’ipotesi fat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838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a campagn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 è ottenuto ciò che sta in fig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19000" y="2876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3200400" cy="2079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7200" y="342900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di Similarit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vers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he descri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l profilo verticale della velocità del vento entro il 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quin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300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133720" y="4343400"/>
                <a:ext cx="2070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57200" y="4952880"/>
            <a:ext cx="55627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ve la funzion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ò essere espressa 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L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62080" y="4281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5867280"/>
                <a:ext cx="2822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ctg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289548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419720" y="5867280"/>
                <a:ext cx="1127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19320" y="6858000"/>
                <a:ext cx="9396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/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57200" y="647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/L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7315200"/>
            <a:ext cx="5867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un sito piano e omogeneo, in condizioni quasi-stazionarie ed entro 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/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è possibile ottenere il profilo verticale della velocità del vento entro il 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91440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di Similarità del profilo del valor medio d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nel 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2240" y="4300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905120" y="1676520"/>
                <a:ext cx="2409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90840" y="4300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86000" y="2438280"/>
                <a:ext cx="1940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f>
                                  <m:num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286000" y="3048120"/>
                <a:ext cx="816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85800" y="2133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1/L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1240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1/L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038480"/>
            <a:ext cx="5639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di Similarità del profilo del valor medio d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1" lang="en-US" sz="2000" spc="-1" strike="noStrike" u="sng" baseline="-25000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nel 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00120" y="3309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95280" y="5562720"/>
            <a:ext cx="3857760" cy="2523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7636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133720" y="4952880"/>
                <a:ext cx="2384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/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9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r>
                                            <m:t xml:space="preserve">z</m:t>
                                          </m:r>
                                          <m:r>
                                            <m:t xml:space="preserve">/</m:t>
                                          </m:r>
                                          <m:r>
                                            <m:t xml:space="preserve">L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si z/L 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L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     si z/L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914400"/>
            <a:ext cx="59436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di Similarità del profilo del valor medio d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u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l 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Convet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04800" y="35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2590920" cy="1371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504800" y="35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057400" y="3429000"/>
            <a:ext cx="2590920" cy="13730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057400" y="5486400"/>
            <a:ext cx="2590920" cy="1378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057400" y="6934320"/>
            <a:ext cx="2590920" cy="1379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0968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St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990720"/>
            <a:ext cx="586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di Similarità del profilo del valor medio d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w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l 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8592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898640" y="1797120"/>
                <a:ext cx="28036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/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3</m:t>
                                      </m:r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r>
                                            <m:t xml:space="preserve">z</m:t>
                                          </m:r>
                                          <m:r>
                                            <m:t xml:space="preserve">/</m:t>
                                          </m:r>
                                          <m:r>
                                            <m:t xml:space="preserve">L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   se   </m:t>
                              </m:r>
                              <m:r>
                                <m:t xml:space="preserve">z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&lt;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L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    se   </m:t>
                              </m:r>
                              <m:r>
                                <m:t xml:space="preserve">z</m:t>
                              </m:r>
                              <m:r>
                                <m:t xml:space="preserve">/</m:t>
                              </m:r>
                              <m:r>
                                <m:t xml:space="preserve">L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457280" y="3243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3943080" cy="2657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376280" y="3214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371600" y="5791320"/>
            <a:ext cx="4105440" cy="2714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2514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Convet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St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838080"/>
            <a:ext cx="57909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i base del Model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legge di conservazione della 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legge di conservazione della quantità di 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legge di conservazione dell’entr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quazione dei gas perf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NB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Per semplificare non si considera il vapor d’acqua e l’acqu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iquida presente nel PBL e nemmeno, per ora, la presenza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pecifici inquinan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Equazione di Conservazione della mass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2420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489040" y="4559400"/>
                <a:ext cx="12607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414440" y="4324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6172200"/>
                <a:ext cx="4295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t xml:space="preserve">w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ν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376280" y="4324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14400" y="6781680"/>
                <a:ext cx="4321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t xml:space="preserve">w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ν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333440" y="4324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914400" y="7391520"/>
                <a:ext cx="4444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t xml:space="preserve">w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ν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556272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servazione della Quantità di M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066680"/>
            <a:ext cx="57909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i di Similarità per l’intero P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no state sviluppare anche Relazioni di Similarità valide per l’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tero PB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Esse si basano sulla conoscenza 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zante meccanic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zante convettiv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estensione verticale del PB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 nuovo parametro di scala w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locità convet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 scal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nullo nelle situazioni stabili e n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tuazioni convettive definito 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05120" y="4324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514600" y="5562720"/>
                <a:ext cx="1309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/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ρ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685800" y="6629400"/>
            <a:ext cx="533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quanto riguarda, poi, il profilo verticale delle componenti del vento e della temperatura potenziale, è necessario anche la conoscenza de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arametro di Corioli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legato alla latitudine ed alla velocità di rotazione terrest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582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990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filo verticale delle componenti u e v del ven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4272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733400" y="1422360"/>
                <a:ext cx="3238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/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070000" y="2178000"/>
                <a:ext cx="2603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/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952720" y="3035160"/>
                <a:ext cx="600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u</m:t>
                            </m:r>
                          </m:e>
                          <m:sub/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76212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3505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Convet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5486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Adiaba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6294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St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8136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5760" y="3949560"/>
                <a:ext cx="1396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78136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759120" y="3949560"/>
                <a:ext cx="13971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84200" y="4635360"/>
                <a:ext cx="1851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435480" y="4635360"/>
                <a:ext cx="1854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1766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271520" y="6083280"/>
                <a:ext cx="5540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11004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095560" y="6076800"/>
                <a:ext cx="71604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20508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263760" y="6083280"/>
                <a:ext cx="4730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11004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95680" y="6019920"/>
                <a:ext cx="7146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3162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031840" y="7226280"/>
                <a:ext cx="5842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194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638520" y="7143840"/>
                <a:ext cx="1609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4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279576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752480" y="7448400"/>
                <a:ext cx="1419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11004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52960" y="7448400"/>
                <a:ext cx="71424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7621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filo verticale della temperatura potenzia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898640" y="1187280"/>
                <a:ext cx="29750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/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1871640" y="4191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536840" y="1847880"/>
                <a:ext cx="3546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μ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</m:t>
                              </m:r>
                              <m:r>
                                <m:t xml:space="preserve">μ</m:t>
                              </m:r>
                              <m:r>
                                <m:t xml:space="preserve">≥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9</m:t>
                              </m:r>
                              <m:r>
                                <m:t xml:space="preserve">μ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μ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6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3106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          </m:t>
                              </m:r>
                              <m:r>
                                <m:t xml:space="preserve">μ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533520" y="320040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filo verticale d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733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Convet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44197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St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2420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558880" y="4108320"/>
                <a:ext cx="12733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bSup>
                      <m:e>
                        <m:r>
                          <m:t xml:space="preserve">w</m:t>
                        </m:r>
                      </m:e>
                      <m:sub/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266220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565360" y="4788000"/>
                <a:ext cx="15843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u</m:t>
                        </m:r>
                      </m:e>
                      <m:sub/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33520" y="5638680"/>
            <a:ext cx="579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filo verticale d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Convet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7238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St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448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743200" y="7696080"/>
                <a:ext cx="12286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/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523880" y="6553080"/>
                <a:ext cx="3619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/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/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/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z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8</m:t>
                                    </m:r>
                                    <m:f>
                                      <m:num>
                                        <m:r>
                                          <m:t xml:space="preserve">z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Sigmas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3733920" cy="2714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14400" y="990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uni dati sperimentali in Situazioni Convet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343400"/>
            <a:ext cx="5867280" cy="3965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clude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oria della Similarit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uno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hema concettua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n cui è possibile costruir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i semiempirich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fili verticali delle principali variabili di interesse micrometeorolog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iò permette di costruire di fatto un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o di PBL alternativ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quello fluidodinamico, totalmente basato su misure, avente come limitazioni il fatto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ve essere applicato a situazioni quasi-stazionar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ad un sito piano ed omogen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762120"/>
            <a:ext cx="5791320" cy="78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Modello Numerico del PBL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lt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pplicazioni pratich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es. dispersione degli inquinanti) richiedono la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oscenza, nello spazio e nel temp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dell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rincipali caratteristiche del 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tipo ed il numero delle variabili micrometeorologiche richieste dai modelli dispersione degli inquinanti in aria dipende dal tipo del modello che si utilizzerà e dalla sua complessità intrinse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i sono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 modi di risolvere questo problem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può utilizzare il 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o fluidodinamico del 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indi le 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ggi prognostich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conserv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rognostic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tima della variazione temporale di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riabi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può impiegare un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base teorica più semplice (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 ti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agnostico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fondata prevalentemente sulle misur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perimentali disponibili rinunciando però alla previ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la loro variabilità nel tempo e lavorando quindi per s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asi stazion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possono usar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lo le misure sperimenta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quando 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blema è prevalentemente locale ed i modelli impieg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no stazionari e sempl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914400"/>
            <a:ext cx="5943600" cy="78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dello Numerico Prognostico del P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variabili più frequentemente richieste dai modelli prognostici di dispersione degli inquinanti in aria sono l’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oluzione tempora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la prognosi, quind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tribuzione al suol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a Radiazione Glob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 Netta, del Flusso Turbolento di Calore Sensibi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a velocità di frizione, della lunghezza di Moni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bukh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mpi tridimension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e tre componenti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ento, della temperatura potenziale, dell’umid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’aria, della pressione, della deviazione stand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e tre componenti del vento ed altri paramet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ratteristici della turbolenza de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er ottenere l’andamento temporale di queste variabili è necessario l’impiego del modello fluidodinamico del PBL  con adeguate ipotesi di chiusura, a seconda delle situazioni tipiche che si incontrano nell’applicazione (es. situazioni convettiv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Questo è un modello differenziale che può essere risolto solo numericamente con opportune condizioni iniziali e al contorno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838080"/>
            <a:ext cx="5943600" cy="76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risoluzione numer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lle equazioni del modello è un problema molto complesso.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fficolt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icoltà matematich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le equazioni so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fferenziali e richiedono adeguate approssim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umer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icoltà informatich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è necessario l’uso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tori molto veloci e con molta memori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sposi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modelli sviluppati sono d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ipo differen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del tipo di dominio di calcolo che si conside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odelli tridimens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odelli bidimensionali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usati per lo studio delle 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stiere, in cui il dominio di calcolo è un piano con un l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rizzontale perpendicolare alla costa ed un lato verti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odelli monodimensiona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usati quando si deb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udiare siti senza orografia e con forte omogene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rizzontale e quando gli effetti di trasporto possono ess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rascur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d anche per il tipo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 chiusura adottat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838080" y="1752480"/>
                <a:ext cx="16225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  <m:r>
                              <m:t xml:space="preserve">'</m:t>
                            </m:r>
                            <m:r>
                              <m:t xml:space="preserve">w</m:t>
                            </m:r>
                            <m:r>
                              <m:t xml:space="preserve">'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64312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191120" y="1752480"/>
                <a:ext cx="174924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w</m:t>
                            </m:r>
                            <m:r>
                              <m:t xml:space="preserve">'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299088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819520" y="1752480"/>
                <a:ext cx="965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  <m:r>
                              <m:t xml:space="preserve">'</m:t>
                            </m:r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294804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219320" y="2666880"/>
                <a:ext cx="10634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295272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743200" y="2666880"/>
                <a:ext cx="1041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294804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495680" y="2666880"/>
                <a:ext cx="1051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609480" y="3352680"/>
            <a:ext cx="58676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on si può qui descrivere il dettaglio delle approssimazioni numeriche usate. Semplific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utte l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rivate spazi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vanno approssimate.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rivata di una variabile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un nod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a gri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calcolo può essere approssimata per es. 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28960" y="4348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743200" y="5105520"/>
                <a:ext cx="10764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743200" y="6400800"/>
                <a:ext cx="1076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609480" y="571500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te 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rivate tempora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un istan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so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ere approssimate 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7010280"/>
            <a:ext cx="563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 ogni intervallo di tempo è necessari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solv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 sistema di equazioni algebrich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gran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mensioni che costituisce l’approssim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umerica del sistema di equazioni differenzi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9144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Si consideri come riferimento un modello monodimens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582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838080"/>
            <a:ext cx="59436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odelli prognostici disponibi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M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gional Atmospheric Modeling System) sviluppato da Colorado State Univers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TMA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igher Order Turbulence Model for Atmospheric Circulation) sviluppato da YSA Corporation (Santa Fe , New Mexic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P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dvanced Regional Prediction System) sviluppato dal Center for Analysis and Prediction of Storms (CAPS), University of Oklah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472428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ossedere uno di questi modelli non significa essere in grado automaticamente di ricostruire le variabili di interess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esti modelli richiedono condizioni iniziali ed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orno in tutto il dominio di calcolo e la lo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terminazione richiede un lavoro non semplice 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sponibilità di misure e di previsioni a scala glob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esti modelli non sono (e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n possono esse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s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richiedono specialisti per la loro gest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838080"/>
            <a:ext cx="5791320" cy="76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Modello diagnostico del PBL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’ un modell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lto meno compless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bas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revalentemente sull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isure sperimen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’ istante in cui si richiede di ricostruire i cam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eteorologici di interes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sidera la variazione temporale del fenome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eteorologico come un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ccessione di 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asi-staziona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tilizzano relazioni fisiche semplici, (norm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egge di conservazione della massa e 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elazioni di similarit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modello è decisamente più semplice di quello prognostico,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 la sua realisticità dipende completamente dalla bontà delle misure su cui si bas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elementi principali di un tale modello s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definizione de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ominio di calco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ricostruzione de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tridimensionale del v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ricostruzione dei campi scalari (temperatura potenz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d umidità) med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 a ricostruzione dei campi di turbolen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costruzione dell’altezza di rimescol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servazione dell’Ent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7172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23960" y="1574640"/>
                <a:ext cx="52480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t xml:space="preserve">w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12408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95480" y="2895480"/>
                <a:ext cx="6732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57200" y="23623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gge dei Gas Perf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581280"/>
            <a:ext cx="57909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tut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queste equazioni si considerano i 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lori istantanei delle variabili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e variabili sono 6, le equazioni sono 6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, il sistema è formalmente chiu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In teori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 si conoscessero le condizioni iniziali del fl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le condizioni al co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l sistema di equazioni differenziali alle derivate parziali dovrebbe potersi risol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ata la complessità matematica, non è possibile una sua risoluzione analitica, tuttavia è sperabile una sua soluzione almeno numer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6477120"/>
            <a:ext cx="4856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838080"/>
            <a:ext cx="5943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minio di calco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riglia cartesiana reg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3352680" cy="1757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600200" y="5638680"/>
            <a:ext cx="3524400" cy="1846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09480" y="4114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Maglia cartesiana con coordinata verticale terrain-following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z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895480" y="4876920"/>
                <a:ext cx="847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838080"/>
            <a:ext cx="624852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Ricostruzione diagnostica del campo tridimension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del 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problema si può formulare come se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osca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 un ist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unti della griglia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o il valore del vettore vent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,v,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. Ciò si pu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ttenere con misure da stazioni meteo al suolo e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emore-sensin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SODAR e Wind-Profil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problema da risolvere è l’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dividuazione del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ettoriale del vento medio 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x,y,z) che neg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unti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isura coincide con i valori misur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Il campo vettoriale così individuato rispettar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95520" y="4324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371600" y="5181480"/>
                <a:ext cx="3933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533520" y="6019920"/>
            <a:ext cx="57150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sì formulato, i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blema possiede infinite solu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invece di richiedere 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incidenz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n le misure, si richiede invece la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glior approssimazione ad una interpolazione iniziale delle misure stesse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first guess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, il problema possied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a ed una sola solu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he consente di ottenere il campo di vento cer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914400"/>
            <a:ext cx="586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termini matematici, questo è u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roblema di analisi variazion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richiede la minimizzazione del funzionale segu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90720" y="1981080"/>
                <a:ext cx="4559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Ω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</m:ba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top"/>
                                              </m:barPr>
                                              <m:e>
                                                <m:r>
                                                  <m:t xml:space="preserve">u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ba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top"/>
                                              </m:bar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</m:ba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top"/>
                                              </m:barPr>
                                              <m:e>
                                                <m:r>
                                                  <m:t xml:space="preserve">w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dy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t xml:space="preserve">λ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ba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dydz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2833560" y="3862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743200" y="4114800"/>
                <a:ext cx="12286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170028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6095880"/>
                <a:ext cx="3738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457200" y="312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i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moltiplicatore di Lagrange e i vari coefficienti 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dei pesi dipendenti dalla stabilit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3733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soluzione è la segu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6386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 porta all’equazione differenzi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693432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olvendo numericamente le equazioni differenziali precedenti con opportune condizioni al contorno si ottiene il campo diagnostico di vento deside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838080"/>
            <a:ext cx="59436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Ricostruzione diagnostica della temperatura e di altre variabili scal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ndo è necessario conoscere ad un ist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l campo di temperatura media od un altro campo scalare medio (es. umidità), la cosa più semplice è interpolare con uno dei metodi consueti le misure disponibili al suolo e, se possibile, in quota (radiosondaggi o RA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00520" y="4114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819520" y="3276720"/>
                <a:ext cx="1044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57200" y="4495680"/>
            <a:ext cx="5867280" cy="40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Ricostruzione bidimensionale di alcune variabili di interess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esto è il caso del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diazione globale e n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iction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lusso turbolento di calore sensibile e la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 dei parametri derivat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iò si realizza impiegando un normale algoritmo di interpolazione bidimensionale. Se tali variabili non venissero misurate, verranno stimate con i metodi messi a punto dalla Micrometeorolo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838080"/>
            <a:ext cx="5867280" cy="75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Stima dell’altezza di rimescolam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pesso non è possibile la sua determinazione sperimentale dai profili verticali di temperatura. E’ quindi necessaria una sua s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tuazione convettiva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a noto in un punt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 suo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l valore dei parametri meteo normali e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si consideri un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lonna d’aria centrata sul punto considerat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di superficie di base uni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determinare un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o semplic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lla sua evoluzione temporale si facciano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potes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lla notte il profilo verticale di temperatura potenz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la colonna d’aria presenta un andamento lineare co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ota con gradient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ando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è positiv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si ha un input di energia che 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r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 stabilità notturn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con un aumento di temp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tenziale di tutto i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restando inalterato il prof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rmico superiormente. A mano a mano che proc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iniezione di energia ne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la temperatura potenz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l suo interno aumenta proporzionalmente. Per semplic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assume che tutto i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a rappresentato da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582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981080" y="838080"/>
            <a:ext cx="3200040" cy="2438640"/>
            <a:chOff x="1981080" y="838080"/>
            <a:chExt cx="3200040" cy="2438640"/>
          </a:xfrm>
        </p:grpSpPr>
        <p:sp>
          <p:nvSpPr>
            <p:cNvPr id="375" name=""/>
            <p:cNvSpPr/>
            <p:nvPr/>
          </p:nvSpPr>
          <p:spPr>
            <a:xfrm>
              <a:off x="2300760" y="838080"/>
              <a:ext cx="108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21200" y="3167640"/>
              <a:ext cx="2959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700720" y="1130040"/>
              <a:ext cx="1920600" cy="2068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260520" y="2586240"/>
              <a:ext cx="1080" cy="59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660480" y="2149920"/>
              <a:ext cx="10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60480" y="1130040"/>
              <a:ext cx="96084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260520" y="2149920"/>
              <a:ext cx="4010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81080" y="1130400"/>
              <a:ext cx="159840" cy="14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21640" y="2950920"/>
              <a:ext cx="80640" cy="1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276720" y="3276720"/>
            <a:ext cx="1440" cy="823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276720"/>
            <a:ext cx="1440" cy="54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419112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zione a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33920" y="3886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zione a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5720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ual è la variazione dell’altezza di rimescolamento in un intervallo d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i ha un au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temperatura potenziale ne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cu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895480" y="5791320"/>
                <a:ext cx="777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θ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971800" y="6934320"/>
                <a:ext cx="825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3124080" y="640080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76960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azione prognostica dell’altezza di rimescol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914400"/>
            <a:ext cx="59436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’incremento di temperatura potenziale e quindi di altezza di rimescolamento è dovuto ad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 può dimostrare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5272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666880" y="1828800"/>
                <a:ext cx="1041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609480" y="2438280"/>
            <a:ext cx="579132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 si consideran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ue istanti successiv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l’altezza di rimescolamento 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costante tr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relazione precedente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28680" y="4248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057400" y="4191120"/>
                <a:ext cx="2612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  <m:sSub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ρ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33520" y="495288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applica questo model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 tutte le colonne d’aria del dominio di calco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zione spaziale dell’altezza di rimescol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Mixing%20Height" descr=""/>
          <p:cNvPicPr/>
          <p:nvPr/>
        </p:nvPicPr>
        <p:blipFill>
          <a:blip r:embed="rId1"/>
          <a:stretch/>
        </p:blipFill>
        <p:spPr>
          <a:xfrm>
            <a:off x="1295280" y="6095880"/>
            <a:ext cx="40388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582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1066680"/>
            <a:ext cx="58672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tuazione Stabile ed Adiab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queste situazioni, 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ltezza di rimescolamento rappresenta la quota dove si esaurisce la turbolenza che in questi casi è di tipo mecca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no state propost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elazioni di tipo diagnostic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econdo cu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lle situazioni adiabatiche e poco stabi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vale la rel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5740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470320" y="4635360"/>
                <a:ext cx="10317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0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/>
                      <m:sup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230508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828800" y="5638680"/>
                <a:ext cx="2514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9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L</m:t>
                                    </m:r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3</m:t>
                                    </m:r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/>
                                    </m:sSub>
                                    <m:r>
                                      <m:t xml:space="preserve">/</m:t>
                                    </m:r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/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457200" y="5181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lle situazioni stabi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6553080"/>
            <a:ext cx="56390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er ogni colonna d’aria che costituisce il dominio di calcolo sono not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è possibile anche in questo caso determinare la distribuzione spaziale dell’altezza di rimescol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5829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8380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terminazione del campo tridimensionale di turbolenza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600200"/>
            <a:ext cx="594360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lla maggior parte dei casi pratic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urbolenz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ndard deviation delle componenti del v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termina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tali variabili è necessario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considerino le colonne d’aria che compongono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minio di calco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ano note alla base di ciascuna colonna d’ari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rametri micrometeorlogici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 tal caso si applica all’intera colonna d’aria una delle Relazioni di Similarità che descrivono il profilo verticale delle variabili di interess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es., se si considerano le seguenti relazioni di similarità per le deviazioni standard delle componenti del v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convet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57520" y="4272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1523880" y="7010280"/>
                <a:ext cx="3533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/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/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8</m:t>
                                        </m:r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1467000" y="438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371600" y="7772400"/>
                <a:ext cx="41274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/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7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/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10666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st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14776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835280" y="1530360"/>
                <a:ext cx="2701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3</m:t>
                    </m:r>
                    <m:sSub>
                      <m:e>
                        <m:r>
                          <m:t xml:space="preserve">u</m:t>
                        </m:r>
                      </m:e>
                      <m:sub/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241720" y="2209680"/>
                <a:ext cx="17650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7</m:t>
                    </m:r>
                    <m:sSub>
                      <m:e>
                        <m:r>
                          <m:t xml:space="preserve">u</m:t>
                        </m:r>
                      </m:e>
                      <m:sub/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2395440" y="3052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447920" y="2743200"/>
            <a:ext cx="4130280" cy="3038400"/>
            <a:chOff x="1447920" y="2743200"/>
            <a:chExt cx="4130280" cy="3038400"/>
          </a:xfrm>
        </p:grpSpPr>
        <p:grpSp>
          <p:nvGrpSpPr>
            <p:cNvPr id="424" name=""/>
            <p:cNvGrpSpPr/>
            <p:nvPr/>
          </p:nvGrpSpPr>
          <p:grpSpPr>
            <a:xfrm>
              <a:off x="2971800" y="2895480"/>
              <a:ext cx="2606400" cy="2468520"/>
              <a:chOff x="2971800" y="2895480"/>
              <a:chExt cx="2606400" cy="2468520"/>
            </a:xfrm>
          </p:grpSpPr>
          <p:sp>
            <p:nvSpPr>
              <p:cNvPr id="425" name=""/>
              <p:cNvSpPr/>
              <p:nvPr/>
            </p:nvSpPr>
            <p:spPr>
              <a:xfrm>
                <a:off x="5029920" y="2895480"/>
                <a:ext cx="273960" cy="273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121360" y="298656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29920" y="3169440"/>
                <a:ext cx="273960" cy="273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121360" y="326088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29920" y="3443760"/>
                <a:ext cx="273960" cy="273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121360" y="353520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029920" y="3716280"/>
                <a:ext cx="273960" cy="273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21360" y="380952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29920" y="3992400"/>
                <a:ext cx="273960" cy="273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121360" y="408384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029920" y="4266720"/>
                <a:ext cx="273960" cy="273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21360" y="435816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029920" y="4541040"/>
                <a:ext cx="273960" cy="273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21360" y="463248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29920" y="4815360"/>
                <a:ext cx="273960" cy="273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21360" y="490680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29920" y="5087880"/>
                <a:ext cx="273960" cy="273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121360" y="518112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5600" y="5364000"/>
                <a:ext cx="82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3109320" y="3048480"/>
                <a:ext cx="210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229920" y="3303000"/>
                <a:ext cx="191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312000" y="357732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3413520" y="3841920"/>
                <a:ext cx="173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3494880" y="4126320"/>
                <a:ext cx="164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3475080" y="4410360"/>
                <a:ext cx="173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475080" y="4671720"/>
                <a:ext cx="173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3315240" y="4945320"/>
                <a:ext cx="1825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2971800" y="5211000"/>
                <a:ext cx="201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743200"/>
              <a:ext cx="2067120" cy="30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"/>
          <p:cNvSpPr/>
          <p:nvPr/>
        </p:nvSpPr>
        <p:spPr>
          <a:xfrm>
            <a:off x="533520" y="6172200"/>
            <a:ext cx="58672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petendo la procedura per tutte le colonne d’aria e per tutte le variabili di interesse si ottengono i campi tridimensionali della turbolenza del PB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esta ricostruzione completa il modello diagnostico del P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0280" y="7737480"/>
            <a:ext cx="6337440" cy="1046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7524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676520"/>
            <a:ext cx="563904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esta soluzione non è possibile in pratica perché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este equazion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n sono linear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presenta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aratteristiche tipiche de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i caotic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una risoluzione numerica su un dominio di calc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alistico sarebbero necessar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mputer con potenz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 calcolo lontane dalle possibilità attua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dovrebbero fornire al modello l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izioni inizi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d al contorno relative alle varibili istantane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utto il dominio di calcolo. Data la presenza 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urbolenza, ciò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on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assolutamente possi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6248520"/>
            <a:ext cx="457200" cy="519120"/>
          </a:xfrm>
          <a:prstGeom prst="downArrow">
            <a:avLst>
              <a:gd name="adj1" fmla="val 50000"/>
              <a:gd name="adj2" fmla="val 283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8380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Micrometeorologia e Meteorologia per i modelli di dispersione degli inquinanti di tipo ingegneri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1752480"/>
            <a:ext cx="601992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er la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tima preliminare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dell’impatto di sorgenti inquinanti spesso si usano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semplificati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che richiedono una descrizione semplice della meteorologia e micrometeorolo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potesi meteorologich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tali modelli fanno s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ariazione temporale della meteorologia = sequenza di stati staziona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mpo di vento e di temperatura omogeneo in orizzont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a la velocità del vento che la temperatura presentano un profilo verticale, dato dalle relazioni di similari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turbolenza atmosferica deve essere descritta in maniera semp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pratica, tutti i modelli di questo tipo richied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elocità e direzione del vento ad una quota di riferim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emperatura dell’aria ad una quota di riferim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a descrizione della turbolenza del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different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conda del modello considera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ltezza di rimescolamento (unica per tutto il domi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838080"/>
            <a:ext cx="6096240" cy="72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 principale differenza tra un modello ed un altro sta proprio nella descrizione della turbolenz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&gt; Modelli modern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odelli “antichi”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usano un parametro sintetico dett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lasse di Stabilità Atmosferic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lasse di stabilità atmosfer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radizionalmente tutta la variabilità della struttura del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era condensata in 6 classi differ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tegoria A(1)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tuazioni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diurn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molto convettive con vento basso e forte ins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tegoria B(2)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tuazion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diurn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mediamente convettiva con vento moderato e media ins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tegora C(3)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tuazion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diurn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 vento forte e insolazione b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tegora D(4)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tuazion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diurna e notturn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 vento molto forte, insolazione praticamente nulla e copertura del ci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tegoria E(5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tuazion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notturn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 vento elevato e media copertura del ci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tegoria F(6)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tuazion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notturn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 vento molto debole e assenza di nub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880" y="91440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rminazione pratica delle categorie di stabil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cat1" descr=""/>
          <p:cNvPicPr/>
          <p:nvPr/>
        </p:nvPicPr>
        <p:blipFill>
          <a:blip r:embed="rId1"/>
          <a:stretch/>
        </p:blipFill>
        <p:spPr>
          <a:xfrm>
            <a:off x="304920" y="1495440"/>
            <a:ext cx="6172200" cy="42465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6172200"/>
            <a:ext cx="5562720" cy="1618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’ importante ricordare che quando si utilizzano le Classi di stabilità Atmosferica non si può sperare che i calcoli della dispersione degli inquinanti in aria siano realistici, se non in situazioni molto prossime all’adiabatic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1066680"/>
            <a:ext cx="6019560" cy="71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ure Meteorologiche e Micrometeorologich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ur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uantificazione di una variabile di interesse mediante l’impiego di sistemi fisici in grado di variare una propria caratteristica a seconda del valore assunto dalla variabile considera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isur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ariabile da Misura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 sistemi di misura reali presentano errori intrinseci sia di tipo statico e di tipo dina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i di misura micrometeorologici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azione meteorologica al s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dio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llone fre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remote-sensing (SODAR, RASS, LID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Wind Profiler, RAD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9144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zione Meteorologica al s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4880" y="3014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Fig9_1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038480" cy="23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0" name=""/>
          <p:cNvGrpSpPr/>
          <p:nvPr/>
        </p:nvGrpSpPr>
        <p:grpSpPr>
          <a:xfrm>
            <a:off x="990720" y="4114800"/>
            <a:ext cx="4724280" cy="3886200"/>
            <a:chOff x="990720" y="4114800"/>
            <a:chExt cx="4724280" cy="3886200"/>
          </a:xfrm>
        </p:grpSpPr>
        <p:sp>
          <p:nvSpPr>
            <p:cNvPr id="471" name=""/>
            <p:cNvSpPr/>
            <p:nvPr/>
          </p:nvSpPr>
          <p:spPr>
            <a:xfrm>
              <a:off x="990720" y="5265720"/>
              <a:ext cx="4724280" cy="254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01440" y="5519160"/>
              <a:ext cx="1406160" cy="19944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istema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i Acquisi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31800" y="5922360"/>
              <a:ext cx="1895040" cy="28440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Elaborazione di Base &amp; Validazione delle misu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22440" y="6366600"/>
              <a:ext cx="1905120" cy="29772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ima dei parametri di interesse per la Turbolenza Atmosf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30360" y="5725800"/>
              <a:ext cx="36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30360" y="6216840"/>
              <a:ext cx="36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14360" y="6964200"/>
              <a:ext cx="1073880" cy="41580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esentazione dei dati ed Analisi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mpor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00920" y="6988680"/>
              <a:ext cx="1073880" cy="29556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Archiviazione delle Informazion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97200" y="7211160"/>
              <a:ext cx="1074240" cy="46404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smissione delle informazioni al Centro di Control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45360" y="6823440"/>
              <a:ext cx="36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37080" y="6823440"/>
              <a:ext cx="3012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49560" y="6831360"/>
              <a:ext cx="36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21720" y="6688080"/>
              <a:ext cx="36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21720" y="6847560"/>
              <a:ext cx="36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205080" y="7691400"/>
              <a:ext cx="99000" cy="14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222000" y="7784640"/>
              <a:ext cx="17928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303000" y="7785720"/>
              <a:ext cx="81360" cy="21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20200" y="4713120"/>
              <a:ext cx="1150920" cy="36504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vertit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alogico/Digit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62680" y="4114800"/>
              <a:ext cx="1009080" cy="17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nsori Analogic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0840" y="5096880"/>
              <a:ext cx="3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51560" y="5344560"/>
              <a:ext cx="1073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24720" y="5353920"/>
              <a:ext cx="360" cy="16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11360" y="4154760"/>
              <a:ext cx="1051560" cy="15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rumenti Digital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5440" y="4327920"/>
              <a:ext cx="702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50800" y="4344120"/>
              <a:ext cx="702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49640" y="4327920"/>
              <a:ext cx="702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3440" y="4327920"/>
              <a:ext cx="702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68760" y="4344120"/>
              <a:ext cx="70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14480" y="4418280"/>
              <a:ext cx="36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94000" y="4418280"/>
              <a:ext cx="360" cy="8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92080" y="4966560"/>
              <a:ext cx="1030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862800" y="5223240"/>
              <a:ext cx="1231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63160" y="5223240"/>
              <a:ext cx="36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40920" y="4713480"/>
              <a:ext cx="480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S2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6320" y="5095440"/>
              <a:ext cx="480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S2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17280" y="4947480"/>
              <a:ext cx="480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S4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00720" y="4966560"/>
              <a:ext cx="360" cy="5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12760" y="5497560"/>
              <a:ext cx="1161360" cy="43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istema di Calco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97840" y="4327920"/>
              <a:ext cx="70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1940760" y="4396320"/>
              <a:ext cx="32148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949040" y="4395960"/>
              <a:ext cx="10980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1830600" y="4405680"/>
              <a:ext cx="11808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1671480" y="4396320"/>
              <a:ext cx="270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880" y="12193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tena di mis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3352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5800" y="2514600"/>
            <a:ext cx="5575320" cy="2333520"/>
            <a:chOff x="685800" y="2514600"/>
            <a:chExt cx="5575320" cy="2333520"/>
          </a:xfrm>
        </p:grpSpPr>
        <p:grpSp>
          <p:nvGrpSpPr>
            <p:cNvPr id="518" name=""/>
            <p:cNvGrpSpPr/>
            <p:nvPr/>
          </p:nvGrpSpPr>
          <p:grpSpPr>
            <a:xfrm>
              <a:off x="685800" y="2609640"/>
              <a:ext cx="5438160" cy="2174760"/>
              <a:chOff x="685800" y="2609640"/>
              <a:chExt cx="5438160" cy="2174760"/>
            </a:xfrm>
          </p:grpSpPr>
          <p:sp>
            <p:nvSpPr>
              <p:cNvPr id="519" name=""/>
              <p:cNvSpPr/>
              <p:nvPr/>
            </p:nvSpPr>
            <p:spPr>
              <a:xfrm>
                <a:off x="2087640" y="2694960"/>
                <a:ext cx="104580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Trasduttore Prim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71600" y="2714040"/>
                <a:ext cx="98856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Trasduttore Second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916520" y="4308480"/>
                <a:ext cx="1207440" cy="41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nversione Analogico/Digita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5800" y="2618280"/>
                <a:ext cx="1096920" cy="56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ariabile Meteorologica da Misura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509280" y="2609640"/>
                <a:ext cx="1096920" cy="552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ariabile Fisica facile da misura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0080" y="3493440"/>
                <a:ext cx="109692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egnale Elettrico (Analogico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38040" y="4308480"/>
                <a:ext cx="12798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erie Storica di numeri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710360" y="2681280"/>
                <a:ext cx="273960" cy="485640"/>
              </a:xfrm>
              <a:custGeom>
                <a:avLst/>
                <a:gdLst>
                  <a:gd name="textAreaLeft" fmla="*/ 42840 w 273960"/>
                  <a:gd name="textAreaRight" fmla="*/ 239760 w 273960"/>
                  <a:gd name="textAreaTop" fmla="*/ 121320 h 485640"/>
                  <a:gd name="textAreaBottom" fmla="*/ 364320 h 4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70160" y="2739600"/>
                <a:ext cx="273960" cy="365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76680" y="2738880"/>
                <a:ext cx="273960" cy="365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301720" y="3222720"/>
                <a:ext cx="394200" cy="2739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311800" y="3941640"/>
                <a:ext cx="394200" cy="2739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0800000">
                <a:off x="4468320" y="4286160"/>
                <a:ext cx="273960" cy="485640"/>
              </a:xfrm>
              <a:custGeom>
                <a:avLst/>
                <a:gdLst>
                  <a:gd name="textAreaLeft" fmla="*/ 42840 w 273960"/>
                  <a:gd name="textAreaRight" fmla="*/ 239760 w 273960"/>
                  <a:gd name="textAreaTop" fmla="*/ 121320 h 485640"/>
                  <a:gd name="textAreaBottom" fmla="*/ 364320 h 4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708480" y="2514600"/>
              <a:ext cx="555264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3520" y="914400"/>
            <a:ext cx="5790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ratteristiche di uno strumento di mis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stiche stat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proprietà intrinseche al sensore, non dipendono dalla variazione nel tempo del segnale cui è sensibile (precisione, sensibilità, linearità, risoluzione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stiche dinam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proprietà che descrivono la risposta del sensore in funzione dell’andamento nel tempo del segnale meteorologico di ingre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       =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isposta del sens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gnale meteoro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isposta dinam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un sensore è data dall’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quazione differenzi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gu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43280" y="4362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676520" y="5334120"/>
                <a:ext cx="3238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609480" y="6095880"/>
            <a:ext cx="54864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dine del senso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rado dell’equazione differenzi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ratica vanno considerati solo i sensori 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o 0 (i miglio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990720"/>
            <a:ext cx="56390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nsore di grado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lazione algebrica tra risposta del sensore e variabile da misur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n presenta distorsioni o ritardi di rispo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nsore ideale per le misure micrometeorologic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505320"/>
            <a:ext cx="55627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nsore di grad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Relazione dinamica si riduce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95740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743200" y="4343400"/>
                <a:ext cx="1044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685800" y="4800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sposta ad un ingresso a gradi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38600" y="4348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371600" y="5257800"/>
                <a:ext cx="1473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per 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  per 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581280" y="5410080"/>
                <a:ext cx="1228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r>
                              <m:t xml:space="preserve">τ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47" name=""/>
          <p:cNvGraphicFramePr/>
          <p:nvPr/>
        </p:nvGraphicFramePr>
        <p:xfrm>
          <a:off x="1600200" y="6019920"/>
          <a:ext cx="344016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19920"/>
                    <a:ext cx="344016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7621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gresso armon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4804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914400" y="1295280"/>
                <a:ext cx="11779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70972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14600" y="1295280"/>
                <a:ext cx="17575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Φ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291924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724280" y="1219320"/>
                <a:ext cx="12099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557" name=""/>
          <p:cNvGraphicFramePr/>
          <p:nvPr/>
        </p:nvGraphicFramePr>
        <p:xfrm>
          <a:off x="2286000" y="1752480"/>
          <a:ext cx="15890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52480"/>
                    <a:ext cx="1589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533520" y="365760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i rappresenta un segnale come una sovrapposizione di numerose armoniche, la non linearità dell’ampiezza determinerà smorzamenti diversi per le differenti armoniche con una conseguente deformazione del segnale misura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ltro passa bas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066680" y="5181480"/>
          <a:ext cx="4648320" cy="305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181480"/>
                    <a:ext cx="464832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838080"/>
            <a:ext cx="55627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nsore di grado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sua relazione dinamica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71840" y="4362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286000" y="1644480"/>
                <a:ext cx="1866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609480" y="23623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sposta ad un segnale a gradi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066680" y="2971800"/>
          <a:ext cx="327672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327672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302904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876920" y="3048120"/>
                <a:ext cx="799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685800" y="5105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sposta ad un segnale armon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981080" y="5562720"/>
          <a:ext cx="2552760" cy="25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562720"/>
                    <a:ext cx="25527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7524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828800"/>
            <a:ext cx="5638680" cy="55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esto modello, corretto e chiuso, non può essere impiegato in pratic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iò ch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alisticame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possibile conoscere, sono 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valori medi delle variabi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aratteristiche del PBL e poco più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’ necessario, quindi, costruire un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dello in cui siano presenti non i valori istantanei, ma i valori medi ed eventualmente varianze e covarianz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Qui per media si intende sempre una media tempor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200400"/>
            <a:ext cx="457200" cy="519120"/>
          </a:xfrm>
          <a:prstGeom prst="downArrow">
            <a:avLst>
              <a:gd name="adj1" fmla="val 50000"/>
              <a:gd name="adj2" fmla="val 283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219320"/>
            <a:ext cx="457200" cy="519120"/>
          </a:xfrm>
          <a:prstGeom prst="downArrow">
            <a:avLst>
              <a:gd name="adj1" fmla="val 50000"/>
              <a:gd name="adj2" fmla="val 283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33520" y="1219320"/>
            <a:ext cx="586728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assum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 sensore di ordine 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un sensore ideal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nza distorsioni nel segnale di usci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Praticamente è l’unico tipo di sensore in grado di realizzare misure micrometeorologiche corr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 sensore di ordine 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orta come un filtro passa-bas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de sempre una parte del segnale, in particolare la parte ad alta frequenz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Un tale sensore può essere impiegato per misure meteorologiche (valori medi), mentre per micrometeorologiche può essere impiegato solo se non esistono alternative e dopo aver applicato opportune correzioni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 sensore di ordine 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un sensore critico, dato che introduce sempre in uscita qualcosa di oscillante e di artificiale che altera senza rimedio il segnale meteorologico originale.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n andrebbe mai usa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-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9144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emometro a co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43040" y="3295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724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emometro a Bander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Fig9_14" descr=""/>
          <p:cNvPicPr/>
          <p:nvPr/>
        </p:nvPicPr>
        <p:blipFill>
          <a:blip r:embed="rId1"/>
          <a:stretch/>
        </p:blipFill>
        <p:spPr>
          <a:xfrm>
            <a:off x="2133720" y="5410080"/>
            <a:ext cx="2743200" cy="2546640"/>
          </a:xfrm>
          <a:prstGeom prst="rect">
            <a:avLst/>
          </a:prstGeom>
          <a:ln w="0">
            <a:noFill/>
          </a:ln>
        </p:spPr>
      </p:pic>
      <p:pic>
        <p:nvPicPr>
          <p:cNvPr id="581" name="Fig9_13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2066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762120"/>
            <a:ext cx="5562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impiega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l’ipotesi di Reynold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econdo cui una variabil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uò essere vista come la somma di un valor medio e di una fluttuazione a media nul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7188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743200" y="1752480"/>
                <a:ext cx="816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1448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51240" y="2654280"/>
                <a:ext cx="13557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56204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3886200"/>
                <a:ext cx="4127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t xml:space="preserve">w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52892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4419720"/>
                <a:ext cx="41576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t xml:space="preserve">w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46700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95280" y="5029200"/>
                <a:ext cx="4305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t xml:space="preserve">w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92880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6477120"/>
                <a:ext cx="5661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t xml:space="preserve">w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θ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θ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θ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311940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95480" y="7772400"/>
                <a:ext cx="6699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R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85800" y="2209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gge di Conservazione della Ma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90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gge di conservazione della Quantità di M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867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gge di Conservazione dell’Ent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73152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gge dei Gas Perf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9907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questo modell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 variabili so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39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14600" y="1523880"/>
                <a:ext cx="14320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p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ρ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θ</m:t>
                                  </m:r>
                                </m:e>
                              </m:ba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u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v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w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u</m:t>
                                  </m:r>
                                  <m:r>
                                    <m:t xml:space="preserve">'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v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'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w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w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',</m:t>
                                  </m:r>
                                </m:e>
                              </m:bar>
                            </m:e>
                          </m:mr>
                          <m:mr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'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'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v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'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'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v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'</m:t>
                                  </m:r>
                                </m:e>
                              </m:bar>
                              <m:r>
                                <m:t xml:space="preserve">,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w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'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09480" y="3429000"/>
            <a:ext cx="56390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 questo modello le variabili sono 15, le equazioni sono sempre 6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l sistema di equazioni non è chius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ncando equazioni, è necessario individuare dell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i semiempirich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he consentano di esprimere le variabili in eccesso (le varianze e covarianze) in funzione delle variabili medi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hemi di Chiusur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701028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464832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371600"/>
            <a:ext cx="5486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emp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usura del primo ordine (di tipo 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modo più semplice per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primere le variabili in ecce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che sono sempre o varianze di componenti del vento o covarianze tra temperatura e le singole componenti del vento) è uno schema del ti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762120"/>
            <a:ext cx="457200" cy="519120"/>
          </a:xfrm>
          <a:prstGeom prst="downArrow">
            <a:avLst>
              <a:gd name="adj1" fmla="val 50000"/>
              <a:gd name="adj2" fmla="val 283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7172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65360" y="3187800"/>
                <a:ext cx="1165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85800" y="3886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tanto si ha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924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52760" y="4254480"/>
                <a:ext cx="1096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92896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90920" y="4724280"/>
                <a:ext cx="1063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92896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590920" y="5181480"/>
                <a:ext cx="1076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33520" y="5943600"/>
            <a:ext cx="5638680" cy="22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olte sono le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i semiempirich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he esprimono i vari coefficient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coefficienti di diffusività turbolenta)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utte dipendenti d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924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8604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4804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4804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066680"/>
            <a:ext cx="5943600" cy="72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ia della Similarit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llel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lla modellizzazione fluidodinamica de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i è cercato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 succes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di ottenere dell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i basate sulle osservazioni speriment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fili vertic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e principali variabili medie e delle varianze e covarianze più importanti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tuazioni quasi stazion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con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rreno piatto ed omogene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ando queste ipotesi non sono soddisfatte completamente, le relazioni dedotte perdono una parte di validità, pur restando una descrizione abbastanza realistica dei profili vertic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relazioni cercate dalla Teoria della Similarità hanno le caratteristiche segu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ono algebr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ono basate sulle osservazioni sperimen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vono dipendere dai parametri che descrivono l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urbolenza de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ioè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 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3:33Z</dcterms:created>
  <dc:creator>consip</dc:creator>
  <dc:description/>
  <dc:language>en-US</dc:language>
  <cp:lastModifiedBy>Consip</cp:lastModifiedBy>
  <dcterms:modified xsi:type="dcterms:W3CDTF">2003-10-20T20:42:54Z</dcterms:modified>
  <cp:revision>7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682524</vt:r8>
  </property>
  <property fmtid="{D5CDD505-2E9C-101B-9397-08002B2CF9AE}" pid="3" name="_AuthorEmail">
    <vt:lpwstr>ledabul@katamail.com</vt:lpwstr>
  </property>
  <property fmtid="{D5CDD505-2E9C-101B-9397-08002B2CF9AE}" pid="4" name="_AuthorEmailDisplayName">
    <vt:lpwstr>Leda Bultrini</vt:lpwstr>
  </property>
  <property fmtid="{D5CDD505-2E9C-101B-9397-08002B2CF9AE}" pid="5" name="_EmailSubject">
    <vt:lpwstr/>
  </property>
</Properties>
</file>