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E58-02B7-4DA8-A44E-64F6607E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170-AE39-475A-943A-CA039AF4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A55-A7A7-43F7-A1C0-C8983FA6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DC9-BA01-47F5-BDF0-5709DE7C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176-E18F-4AE9-9491-D9B8BDB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B4F-48E2-4F60-8F9B-0901584A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E9F-88A3-4BE2-A9C8-550D276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452-3E13-46E5-BB35-1E757F0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AFF-AA40-4496-928D-BE60CF3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EA2-C09B-43F3-AAC6-1D83759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5C1-DB3A-49FC-B52C-F8632E8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04E-B638-4E50-AD54-41AF5BB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408D-1A8F-4630-A11F-12B984DC5EE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2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roduzione alla Turbolenza del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057400"/>
            <a:ext cx="5333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e si misurano le tre componenti del vento e la temperatura con sensori a risposta rapida si vede 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variabili considerate presentano un andamento abbastanza regolare a cui si sovrappongono irregolarità molto elevate che paiono “rumore” e presentano le caratteristiche di un segnale casual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gn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damento medio regol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+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luttuazion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irregola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urbole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esta è proprio la caratteristica esteriore rilevante della turbolenza nel PBL ed in tutti i fluidi turbolenti di interesse geofis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antifica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la Turbolenza deve essere necessariament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dot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roprio dall’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analisi delle fluttuazioni (irregolarità)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enute nel seg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648320"/>
            <a:ext cx="4860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ED2-E95D-4E6E-9F0D-A42880DD5A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_36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19320" y="1066680"/>
          <a:ext cx="441792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441792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276720" y="624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0666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10666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3716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4290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86728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19E-9BCE-4FB3-8AF4-E781765E4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_3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828800"/>
            <a:ext cx="5715000" cy="44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Convettive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       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       T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   L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Adiabatiche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         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       T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      L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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Stabili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         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     T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     L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700-CD62-4FA8-9C57-713690AC1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2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19040" y="38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4219560" cy="149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19040" y="34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4219560" cy="221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19040" y="34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19320" y="4952880"/>
            <a:ext cx="4219560" cy="22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CE1-8B60-4047-B543-065DF8E5F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29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31880"/>
            <a:ext cx="4391280" cy="757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73E-6768-45CC-AA19-71AE36E7F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0080" y="3252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4724640" cy="256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3886200"/>
            <a:ext cx="563904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 può osserv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fluttuazioni sono apparentemente aleatori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è possibile definire u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lore tipi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4.8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fluttuazioni stanno in 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vallo limita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varia col tempo 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urbol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luttuazion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ria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segnale 1.7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ste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rande varietà di scale sovrap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empo tra picchi piccoli : circa 1 mi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empo tra picchi più elevati: circa 5 mi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ltre variazioni: circa 10 mi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a variazione più piccola: 10 seco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 ogni scala temporale sono associati vortici di dimensione differe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F2A-BDEF-45C8-B7F5-0CF01C573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31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066680"/>
            <a:ext cx="5410080" cy="1838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potesi di Reyn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gni segnale meteorologico è costituito dalla sovrapposizione di un andamento medio e di fluttuazioni turbolente apparentemente casuali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nti media null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8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esempio è la componen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ven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172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666880" y="2590920"/>
                <a:ext cx="1114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91456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0760" y="3581280"/>
                <a:ext cx="1041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4495680"/>
            <a:ext cx="5410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poterla applicare 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cessar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fin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modo corretto i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mpo di medi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on inferiore a 15 minuti e non superiore a 1 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che si misuri con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nsore a risposta rapi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400800"/>
            <a:ext cx="53337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come sono realizzate le stazioni meteorologiche, non è possibile acquisire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nale continu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ciò che si acquisisce è un valo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 ogni istan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si considera. Normalmente g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tanti di campionamento sono equispazi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DE2-9062-4BF8-8A9A-4E999B46E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32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14400"/>
            <a:ext cx="5867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lle misu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ndard deviatio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,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mpio, per la component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 ve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sulta pari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05120" y="1905120"/>
                <a:ext cx="2476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85800" y="2514600"/>
            <a:ext cx="5486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quadrato della deviazione standard è 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arian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si determinano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ndard deviation relative alle tre componenti del ven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è possibile calcolare l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nergia cinetica turbolen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energia posseduta dalle masse d’aria a causa della turbolenza presente) definita 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362320" y="4343400"/>
                <a:ext cx="1701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5029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 due variabili si può definire l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Considerando la temperatura potenzial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componen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v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28800" y="5791320"/>
                <a:ext cx="2997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</m:d>
                          </m:e>
                        </m:d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838080" y="6477120"/>
            <a:ext cx="5029200" cy="1923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può dimostrare che 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varianza tra una delle componenti del vento ed una variabile scala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temperatura e umidità) rappresenta (a meno di una costante) i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usso della variabile scalare nella direzione della componente del ven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654-E805-426F-B1CA-6542E6C19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-33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8380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effetti, i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lusso Turbolento di Calore Sensib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4480" y="4381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77960" y="1327320"/>
                <a:ext cx="1406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nary>
                    <m:r>
                      <m:t xml:space="preserve">θ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57480" y="4210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30400" y="2286000"/>
                <a:ext cx="4444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∂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Situazione Convettiva</m:t>
                        </m:r>
                      </m:e>
                      <m:e>
                        <m:r>
                          <m:t xml:space="preserve">∂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Situazione Adiabatica</m:t>
                        </m:r>
                      </m:e>
                      <m:e>
                        <m:r>
                          <m:t xml:space="preserve">∂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Situazione Stabi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11940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971800" y="3809880"/>
                <a:ext cx="733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3352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lusso Turbolento di Calore Late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da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648320"/>
            <a:ext cx="54864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l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varianz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ra le componenti u e v del vento e la componente w si ottie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a meno di una costante) lo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forzo di taglio orizzont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vuto all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ttri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e masse d’aria sulla superficie. In particolare l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forzo di tagl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2420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2420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6172200"/>
                <a:ext cx="573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ρu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57200" y="662940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iction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locit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è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locità di scal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finita 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6120" y="4267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28800" y="7238880"/>
                <a:ext cx="2847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r>
                                          <m:t xml:space="preserve">u</m:t>
                                        </m:r>
                                        <m:sSub>
                                          <m:e>
                                            <m:r>
                                              <m:t xml:space="preserve">'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w</m:t>
                                        </m:r>
                                        <m:sSub>
                                          <m:e>
                                            <m:r>
                                              <m:t xml:space="preserve">'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r>
                                          <m:t xml:space="preserve">v</m:t>
                                        </m:r>
                                        <m:sSub>
                                          <m:e>
                                            <m:r>
                                              <m:t xml:space="preserve">'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w</m:t>
                                        </m:r>
                                        <m:sSub>
                                          <m:e>
                                            <m:r>
                                              <m:t xml:space="preserve">'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124080" y="19051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0CD-839F-4116-94AD-66567D3FA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_34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99072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ri che caratterizzano la turbolenza del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905120"/>
            <a:ext cx="556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zante Convettiv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usso turbolento di Ca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n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66880" y="2666880"/>
                <a:ext cx="1044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33520" y="3352680"/>
            <a:ext cx="563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zante meccanic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friction velocity u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809880"/>
                <a:ext cx="1387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752480" y="5486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ri Access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1722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a di Scal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7816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Lunghezza di Scal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(Lunghezza di Monin Obukh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419720"/>
            <a:ext cx="48006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tezza di Rimescolamento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6324480"/>
                <a:ext cx="974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/</m:t>
                    </m:r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72000" y="7315200"/>
                <a:ext cx="987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F1C-8096-4022-932F-CBF59B9F2B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2_3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444348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67080" y="121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600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2860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44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114440" y="18288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14440" y="25146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886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19520" y="44197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858000"/>
            <a:ext cx="533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6324480"/>
            <a:ext cx="53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7238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67057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098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29528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62485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1D6-C986-4E2E-AD0D-FEB8568E6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17:19:26Z</dcterms:modified>
  <cp:revision>7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