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B1D-5424-4A58-B6EF-5769394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94E-6C51-4075-B835-5A213E3F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45B-AEFE-4D74-BC8D-1A12C8FF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9AB-6AF0-4F19-8D97-2BE0924F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86E-B339-457C-AB9A-F76B76D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F4-30E2-4DB7-917C-238D2749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162-EF87-4DD6-9048-216B8444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B2A-551B-4739-BFFD-484727C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98C-7265-449F-A098-69C304FA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2DA-8AC0-419B-AE5A-E16354B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7A0-DDE2-487F-80E0-6FC8901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51A-5D30-4EFE-ADE1-B7D92D6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3C4-118D-43A1-90D1-6D3D81CBE78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1932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uazioni S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alentemente situazioni nottur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2558880" cy="273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3733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ig1_17" descr=""/>
          <p:cNvPicPr/>
          <p:nvPr/>
        </p:nvPicPr>
        <p:blipFill>
          <a:blip r:embed="rId2"/>
          <a:stretch/>
        </p:blipFill>
        <p:spPr>
          <a:xfrm>
            <a:off x="1752480" y="5638680"/>
            <a:ext cx="304812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D3F-92A1-40B9-8269-E9CDF3FC1E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247680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Stratification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4663800" cy="253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AA2-2397-44B3-9CB0-0BFDE09B9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lume%20Lofting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862520" cy="1938600"/>
          </a:xfrm>
          <a:prstGeom prst="rect">
            <a:avLst/>
          </a:prstGeom>
          <a:ln w="0">
            <a:noFill/>
          </a:ln>
        </p:spPr>
      </p:pic>
      <p:pic>
        <p:nvPicPr>
          <p:cNvPr id="51" name="Fumigation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4952880" cy="30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85C-5D4A-475B-A6AA-A96F7EA259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7652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uzione Giornaliera dell’altezza di Rimesco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5048280" cy="25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6B2-0C65-4D00-8074-CCFE19A4A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17:26:25Z</dcterms:modified>
  <cp:revision>7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