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3.png" ContentType="image/png"/>
  <Override PartName="/ppt/media/image8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4.png" ContentType="image/png"/>
  <Override PartName="/ppt/media/image9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97B1-5E1F-4DDA-9205-AEAB9B2F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2C3-F8CC-4948-8FA9-416DCD05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D069-1240-47D9-BBE9-29F2D3A0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789-55EA-416A-9199-4A46394C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ECE-9959-4BD6-8A1A-CE5B13C0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D0BB-B801-438B-B7AA-98BAF27D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8E1-A5D1-4748-9497-44A223EF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849-D496-4B39-B7A6-C03E9552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79A-547B-4C4A-8C1E-0B101194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1D9-4CB4-4995-B971-D65E831B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665-3D26-48F4-A89A-5DEFCC98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B65-B8C7-457E-9D0E-9093CAE5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3F90-1283-4248-94B8-45A9CA71CC6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5829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 MICROMETEOROLOG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1941480"/>
            <a:ext cx="512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828800"/>
            <a:ext cx="533376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Micrometeorologi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arte di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Meteorologi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he studia la porzione di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Troposfer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in cui avvie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’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i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as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ffu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gli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inquinant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Ha uno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spessore variabil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nel gio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estension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massim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i 1 – 2 k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Ha caratteristiche fisiche e chimiche nettamente distinte dal resto della troposfer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ende il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m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lanetary Boundary Layer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trato Limite Plane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tmospheric Boundary Layer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D24-2BE3-496A-A25E-80B11CA947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29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295280"/>
            <a:ext cx="58672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a zona vicino al suolo con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dz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gativ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o Superficiale S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zona intermedia con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dz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irca null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o Rimescolato ML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'altra zona con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dz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temente positiv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o di Entrainment E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z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a superiore con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dz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sitiv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a inferiore alla precedente, che continua con gradiente circa uguale fino alla sommità della troposf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osfera Liber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Dalle relazioni precedenti si ha 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/dz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-0.0098 (°K/m), 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dz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/dz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0.0098 (°K/m), 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dz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/dz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-0.0098 (°K/m), 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dz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3D53-9A73-42CB-B7A6-F69244B6C6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99072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me si comporta una particella in aria se si altera di poco la sua posizione vertic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 = perturbazione verticale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5284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2057400"/>
                <a:ext cx="16412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z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δz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2971800"/>
            <a:ext cx="5790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vimento verticale particella dipende dal gradiente di temperatura potenzial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&gt; S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dz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ositiv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76400" y="4357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5480" y="4191120"/>
                <a:ext cx="11430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2795760" y="43005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914400" y="4648320"/>
                <a:ext cx="12794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905120" y="6858000"/>
                <a:ext cx="31525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g</m:t>
                                        </m:r>
                                      </m:num>
                                      <m:den>
                                        <m:r>
                                          <m:t xml:space="preserve">θ</m:t>
                                        </m:r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θ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g</m:t>
                                        </m:r>
                                      </m:num>
                                      <m:den>
                                        <m:r>
                                          <m:t xml:space="preserve">θ</m:t>
                                        </m:r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θ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33520" y="53341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La particella oscilla attorno alla propria posizione originale con frequenza N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 (Frequenza di Brunt-Vaisal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63244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&gt; S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dz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negativ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75438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a particella si allontana indefinitamente dalla propria posizione originale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C44-9A12-44E5-81BF-F4C611A126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990720"/>
            <a:ext cx="556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dz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null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la particella non reagisce a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perturb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905120"/>
            <a:ext cx="5638680" cy="6174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si ha una struttura del PBL come quella della figura precedente (gradiente temperatura potenziale positivo in SL, nullo in ML, positivo in 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si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ilasci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al suolo un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articell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con una componente verticale positiva della velocità), es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bbandona senza ritornare il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S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acceleran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ttraversa indisturbata il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iene bloccata dall’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ridiscenderà per garantire la conservazione della mas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Il 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PBL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 è una vera e propria trappola per le particelle emesse al suo interno ed in particolare per quelle emesse al suolo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1240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6629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803-4D36-4659-8B1A-5DC7320F13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582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1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SolarSpectrum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5562720" cy="4469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914400"/>
            <a:ext cx="6019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Bilancio Energetico del PB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Il PBL è una macchina termica gigante che trasforma l’energia solare in movimento dell’aria. Il sole è, quindi, la principale fonte di energia del PB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3048120"/>
            <a:ext cx="57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 sole emett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adiazione elettromagneti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ll’intervallo 0.1 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sib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come u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rpo ner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temperatura di 6000°K.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adiazione ad onda cor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900-2331-4988-B987-F61F121159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582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1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Absorption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4647960" cy="4268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09480" y="9907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olo un ristretto numero di gas presenti in aria può assorbire direttamente una porzione di questa energ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5715000"/>
            <a:ext cx="5639040" cy="25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na parte di radiazione solare è assorbita e riflessa dalle nub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2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na parte è riflessa dalle particelle sospe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na parte è riflessa direttamente dal suol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lbe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irca il 43% della radiazione solare arriva direttamente al suol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957-6560-4CA0-A521-ED13CED823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29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914400"/>
            <a:ext cx="5410080" cy="4876920"/>
            <a:chOff x="685800" y="914400"/>
            <a:chExt cx="5410080" cy="4876920"/>
          </a:xfrm>
        </p:grpSpPr>
        <p:pic>
          <p:nvPicPr>
            <p:cNvPr id="141" name="visible" descr=""/>
            <p:cNvPicPr/>
            <p:nvPr/>
          </p:nvPicPr>
          <p:blipFill>
            <a:blip r:embed="rId1"/>
            <a:stretch/>
          </p:blipFill>
          <p:spPr>
            <a:xfrm>
              <a:off x="685800" y="914400"/>
              <a:ext cx="5410080" cy="4876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42" name=""/>
            <p:cNvSpPr/>
            <p:nvPr/>
          </p:nvSpPr>
          <p:spPr>
            <a:xfrm>
              <a:off x="2604240" y="975960"/>
              <a:ext cx="779040" cy="15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O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77440" y="2579760"/>
              <a:ext cx="82764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rasmissi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4720" y="3668040"/>
              <a:ext cx="946080" cy="13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rasmissi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57680" y="2387160"/>
              <a:ext cx="601560" cy="17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iflessi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29320" y="4371120"/>
              <a:ext cx="601560" cy="17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iflessi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4360" y="4470480"/>
              <a:ext cx="690120" cy="18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iflessi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49760" y="5554080"/>
              <a:ext cx="68004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ssorbi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3400" y="4834800"/>
              <a:ext cx="611640" cy="9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54640" y="3111840"/>
              <a:ext cx="1236240" cy="16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ssorbimento e scatter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73280" y="2679120"/>
              <a:ext cx="6814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ssorbi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 scatter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a aeroso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26280" y="2021400"/>
              <a:ext cx="70164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ssorbi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 scatter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lecol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73480" y="4920120"/>
              <a:ext cx="67608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ssorbi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02160" y="5571360"/>
              <a:ext cx="872280" cy="14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OCEA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77080" y="5563080"/>
              <a:ext cx="53388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UOL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53640" y="5222520"/>
              <a:ext cx="89316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ssorbi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11800" y="5002200"/>
              <a:ext cx="609120" cy="12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048120" y="3200400"/>
            <a:ext cx="3808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5943600"/>
            <a:ext cx="5867280" cy="19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Radiazione Solare incident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=&gt;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adiazione Global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Radiazione riflessa dal suol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lbed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= coefficiente di albe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ergia solare trasferita al suol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 = (1-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) 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297180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9FD2-B0AA-4F69-AED7-8AF84C5C4A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1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762120"/>
            <a:ext cx="58672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i sono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due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azion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el sistema fisico al trasferimento di radiazione sol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’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atmosfer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rpo cald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radiazion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all’infraross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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verso la superficie terrest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suol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corpo caldo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radiazione infrarossa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verso l’atmosf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esti due contributi energetici sono ad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onda lung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quantità d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ergia disponibile al suol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adiazione Nett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è pari 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n =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1-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) Rg + I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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- I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66680" y="4952880"/>
            <a:ext cx="4496040" cy="3200400"/>
            <a:chOff x="1066680" y="4952880"/>
            <a:chExt cx="4496040" cy="320040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1066680" y="4952880"/>
              <a:ext cx="449604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031560" y="5262480"/>
              <a:ext cx="3081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77480" y="6516360"/>
              <a:ext cx="30780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53760" y="5713200"/>
              <a:ext cx="3081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84880" y="7156440"/>
              <a:ext cx="34668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E87-909A-40E5-80E1-B5855869FC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1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143000" y="914400"/>
            <a:ext cx="4222800" cy="2990880"/>
            <a:chOff x="1143000" y="914400"/>
            <a:chExt cx="4222800" cy="299088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143000" y="914400"/>
              <a:ext cx="422280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946600" y="1177200"/>
              <a:ext cx="4705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27680" y="1684080"/>
              <a:ext cx="39780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33520" y="4191120"/>
            <a:ext cx="579096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 fronte di questa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isponibilità energetic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i ha ch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a porzione di energia viene trasmessa al suolo (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Flusso di Calore nel suolo G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a porzione viene usata per evaporare l’acqua del suolo e della vegetazione (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Flusso Turbolento di Calore Latente H</a:t>
            </a:r>
            <a:r>
              <a:rPr b="1" i="1" lang="it-IT" sz="1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=&gt; Il resto viene emessa dal suolo e trasmessa ai primi millimetri d’aria (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Flusso Turbolento di Calore sensibile H</a:t>
            </a:r>
            <a:r>
              <a:rPr b="1" i="1" lang="it-IT" sz="1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motore dei movimenti irregolari delle masse d’aria del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B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2B8-9C4B-4A93-9630-C5722AE733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2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1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Heat%20flux%20and%20Net%20Radiation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3200400" cy="3030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371600" y="3657600"/>
            <a:ext cx="3666960" cy="2290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09480" y="6095880"/>
            <a:ext cx="556272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n è positiva nelle ore diurne fino a che Rg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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20W/m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n è sempre negativa di notte nelle aree r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 è una frazione di 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ripartizione tra H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e H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ipende dal tipo di suolo e dalla umidità presente sullo stes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D55-E446-4663-9629-6AB8D4F282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1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762120"/>
            <a:ext cx="5715000" cy="74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’aria ch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pass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opra la superficie terrestr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cambia energi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ed altera le proprie caratteristiche fisich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=&gt; L’ari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rice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al suolo energia 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e queste sono le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sorgent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energia convettiv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=&gt; L’aria, per la rugosità superficiale del suolo, perde energia per attrito (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perdita di energia meccanic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. Ciò fa sì che si produca, come per tutti i fluidi turbolenti in moto su una superficie rugosa, una generazione di turbolenza meccan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=&gt; Nelle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ore diurn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quando Rn&gt;0 l’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energia persa per attrito è quasi sempre minore di quella acquisita per convezion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tuazioni convet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=&gt; Nelle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ore notturn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al contrario (Rn&lt;0), c’è solo una perdita globale di energia (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tuazioni Stabil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a ciò si nota 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o stato del PBL è differente di giorno e di no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nche il modo con cui si disperdono gli inquinanti è diverso nei due ca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588D-71D0-4977-81A1-79A34F5DC0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981080" y="1676520"/>
          <a:ext cx="263232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76520"/>
                    <a:ext cx="263232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828800" y="5410080"/>
          <a:ext cx="2833560" cy="30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5410080"/>
                    <a:ext cx="28335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838080" y="106668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rofilo verticale di temperatura della Troposf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502920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Individuazione preliminare del PB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9112800">
            <a:off x="2971440" y="5638320"/>
            <a:ext cx="609480" cy="228600"/>
          </a:xfrm>
          <a:custGeom>
            <a:avLst/>
            <a:gdLst>
              <a:gd name="textAreaLeft" fmla="*/ 7596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833-CEE2-440F-8A5B-D2D34AE54A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2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8380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enomenologia del PB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1447920"/>
            <a:ext cx="586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tuazioni Convet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filo di temperatura potenzia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62160" y="30765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2776320" cy="3276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738440" y="36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Fig1_16" descr=""/>
          <p:cNvPicPr/>
          <p:nvPr/>
        </p:nvPicPr>
        <p:blipFill>
          <a:blip r:embed="rId2"/>
          <a:stretch/>
        </p:blipFill>
        <p:spPr>
          <a:xfrm>
            <a:off x="1523880" y="6172200"/>
            <a:ext cx="3886200" cy="2048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38080" y="556272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ruttura dei vortici turbol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E785-1802-4BFA-AAB2-F58F1A89C4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82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2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838080"/>
            <a:ext cx="58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 vengono ad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staurar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flusso ascendent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p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flusso discendent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dow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li inquinanti emessi vengono catturati dai flussi ascendenti e discendenti e presentano pennacchi caratterist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90840" y="3610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Fig1_15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3828960" cy="2003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09480" y="472428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filo della velocità del 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135080" y="5181480"/>
            <a:ext cx="291312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967120" y="4338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572000" y="5791320"/>
                <a:ext cx="9237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f</m:t>
                        </m:r>
                      </m:den>
                    </m:f>
                    <m:f>
                      <m:num>
                        <m:r>
                          <m:t xml:space="preserve">¶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33720" y="4343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648320" y="6553080"/>
                <a:ext cx="790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f</m:t>
                        </m:r>
                      </m:den>
                    </m:f>
                    <m:f>
                      <m:num>
                        <m:r>
                          <m:t xml:space="preserve">¶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4267080" y="525780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Vento Geostro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38E-ECB1-43ED-AF50-A70CC998D5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829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2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219320"/>
            <a:ext cx="60199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Estensione verticale del PB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=&gt;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ltezza di Rimescolamento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secondo la nomenclatura usata nella modellistica della dispersione degli inquina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esenta un’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evoluzione  diurn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aratteris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è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nim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nelle prime ore della mattina (dovuta solo alla turbolenza meccan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aument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n l’arrivo di energia solare fino al tramonto ed in particolare in modo proporzionale all’integrale nel tempo del Flusso Turbolento di calore sensib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cad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molto rapidamente al tramonto con il venir meno dell’apporto energetico sol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3CC2-D60C-4997-A798-EDB4481536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82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990720"/>
            <a:ext cx="5715000" cy="69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ARATTERIZZAZIONE DEL PB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Il PBL è un sistema fisico che si deve studiare nel contesto della Fluidodinamic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stema fisic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è un miscuglio di g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er il suo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udio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è necessario defin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stema di coordinate di ri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sieme di variabili fisich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he lo descriv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sieme di variabili chimich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he lo descriv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stema di riferiment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 utilizza un Sistema di riferimento Cartesiano Ortogon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Asse x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iretto in direzion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W–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positivo verso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Asse y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iretto in direzion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-N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positivo verso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Asse z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iretto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Basso-Alt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positivo verso l’al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C34-31E8-4026-839D-17E6969983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838080"/>
            <a:ext cx="557856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er la descrizione fisica del PBL è necessario usare il concetto d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Volume di Controllo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cell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Volume di controll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= porzione di fluido tanto piccola da avere un volume infinitesimo rispetto all’intero volume del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B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ma sufficientemente grande da possedere le medesime caratteristiche chimiche del resto dell’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Lo studio ha luogo seguendo l’evoluzione di un generico volume di contro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osizione di una Particell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=&gt; P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particella si muo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=&gt;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elocità della Partic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elocità della particell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=&gt;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ent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ttor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e ogni vettore, anche il vento è descritto dalla su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e component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rispetto agli assi del sistema di riferimento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657440" y="7499520"/>
                <a:ext cx="330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7B60-F1EB-4380-83DD-983B8E3839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829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990720"/>
            <a:ext cx="59436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suetudin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zione vento co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locità del vent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374920" y="2209680"/>
                <a:ext cx="2251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</m:rad>
                    <m:r>
                      <m:t xml:space="preserve">≃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533520" y="3048120"/>
            <a:ext cx="6019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rezione di Provenienza del del 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°: da N;  90°: da E; 180°: da S; 270°: da 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282920"/>
            <a:ext cx="68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286000" y="3886200"/>
                <a:ext cx="23623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a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438280" y="4495680"/>
                <a:ext cx="2035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          se 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  <m:r>
                                <m:t xml:space="preserve">°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negli altri casi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762120" y="5562720"/>
            <a:ext cx="55623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ltre Variabili di Interess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mperatura T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espressa in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essione Barometrica P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in hPa o mb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pressione varia con la quota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14600" y="7924680"/>
                <a:ext cx="194616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42</m:t>
                            </m:r>
                            <m:r>
                              <m:t xml:space="preserve">/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E9CB-04E6-47AB-818F-732E179604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14300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7621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ratteristiche dell’aria secca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1055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ia secca =&gt; Gas perf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86280" y="4457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819520" y="5867280"/>
                <a:ext cx="73656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ρ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2938320" y="4357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505320" y="6400800"/>
                <a:ext cx="10843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837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762120" y="64008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nsità dell’ar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70102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lore Specifico a pressione cost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2404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495680" y="7010280"/>
                <a:ext cx="16606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5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2857680" y="4357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590920" y="7696080"/>
                <a:ext cx="12571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0" name=""/>
          <p:cNvGraphicFramePr/>
          <p:nvPr/>
        </p:nvGraphicFramePr>
        <p:xfrm>
          <a:off x="0" y="1295280"/>
          <a:ext cx="6858000" cy="34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6858000" cy="34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7D5-7BBD-4A4E-B5DD-1678DCD8B2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838080"/>
            <a:ext cx="563868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ll’aria è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mp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esente l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qu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prattutto allo stato gassoso (vapor d’acqua) =&gt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ia Umi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828800"/>
            <a:ext cx="57913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tenuto di vapor d’acqu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Tensione di vapore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pressione parziale di vapor d’acqua).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Massimo valore della tensione di satur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pressione di saturazione e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Umidità relativ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RH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Umidità assolut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massa di acqua in 1 m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i 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Umidità specific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grammi di acqua per grammo di aria um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apporto di mescolanz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grammi di acqua per grammo di aria s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5334120"/>
            <a:ext cx="533376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a umida  = gas perfetto che rispetta l’equazione di st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67200" y="4457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800440" y="6165720"/>
                <a:ext cx="76176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ρT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280512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489040" y="7010280"/>
                <a:ext cx="129888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8</m:t>
                        </m:r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232884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057400" y="7848720"/>
                <a:ext cx="23526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5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762120" y="6477120"/>
            <a:ext cx="5181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è 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eratura virtu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73915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ore Latente di Vaporizzazi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123-D03C-4906-AA5E-73793BBEA9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914400"/>
            <a:ext cx="6019920" cy="13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quazione Idrostati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er un particella d’aria, in assenza di moto verticale, la gravità bilancia esattamente il gradiente verticale di pressi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86280" y="4362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946240" y="2038320"/>
                <a:ext cx="736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533520" y="3124080"/>
            <a:ext cx="586728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mperatura Potenziale e stabilità statica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imo Principio della Termodinamic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applicato ad una particella in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vimento adiabatic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è la temperatura di una particella in un punto del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B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a pressione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se la s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asporta adiabaticament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alla pressione di riferimento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es. 1000 mb) la sua temperatura diventa </a:t>
            </a:r>
            <a:r>
              <a:rPr b="1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=&gt;  Temperatura potenz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relazion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esatt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tr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62360" y="4309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58880" y="6838920"/>
                <a:ext cx="1197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ϑ</m:t>
                    </m:r>
                    <m:r>
                      <m:t xml:space="preserve">=</m:t>
                    </m:r>
                    <m:r>
                      <m:t xml:space="preserve">T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00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R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2824200" y="4481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514600" y="7924680"/>
                <a:ext cx="127332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ϑ</m:t>
                    </m:r>
                    <m:r>
                      <m:t xml:space="preserve">≃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98</m:t>
                    </m:r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2805120" y="4362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74674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zion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pprossim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784-E6D3-4D04-8CB7-0C437CE4C2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29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43200" y="1295280"/>
                <a:ext cx="1349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ϑ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9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533520" y="8380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zione tra il gradiente verticale d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 di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828800"/>
            <a:ext cx="60195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 un gradiente di temperatura normale di –0.0098 °K/m corrisponde un gradiente di temperatura potenziale di 0°K/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mperatura potenzia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uò essere vista semplicemente come un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uova definizione di temperatur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se la si applica al profilo verticale di temperatura visto in precedenza si ottiene 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rprendentemen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a figura seg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5120" y="4191120"/>
            <a:ext cx="2762280" cy="2181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3520" y="67057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m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on si notava nulla di particolare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r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iene messo in evidenza chiaramente un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rzione distinta di atmosfer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cui possono essere individuati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e stra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corrispondono  a zone con diversi gradienti verticali di temperatura potenzi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55D-E4CD-4ABA-9A34-454F7792FD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6:43:33Z</dcterms:created>
  <dc:creator>consip</dc:creator>
  <dc:description/>
  <dc:language>en-US</dc:language>
  <cp:lastModifiedBy>Consip</cp:lastModifiedBy>
  <dcterms:modified xsi:type="dcterms:W3CDTF">2003-10-20T17:26:54Z</dcterms:modified>
  <cp:revision>69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3682524</vt:r8>
  </property>
  <property fmtid="{D5CDD505-2E9C-101B-9397-08002B2CF9AE}" pid="3" name="_AuthorEmail">
    <vt:lpwstr>ledabul@katamail.com</vt:lpwstr>
  </property>
  <property fmtid="{D5CDD505-2E9C-101B-9397-08002B2CF9AE}" pid="4" name="_AuthorEmailDisplayName">
    <vt:lpwstr>Leda Bultrini</vt:lpwstr>
  </property>
  <property fmtid="{D5CDD505-2E9C-101B-9397-08002B2CF9AE}" pid="5" name="_EmailSubject">
    <vt:lpwstr/>
  </property>
</Properties>
</file>